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084-BCAF-49C7-B24D-AD4A63A1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128-2F68-4313-B95B-38577626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4366-94AF-4751-95CA-1DAB2D29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4A1-0AD6-4CC3-B91E-EEBF9770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FF8-0EFB-4AA0-AD88-43AD187B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0D5-3B4C-43CC-8554-FE9EBBFD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FBF-2100-4007-8FB0-4DCD2F77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10A-AB0F-4A0A-BD73-D2AED27B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49E-1309-49A8-8140-9C9CAC68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193-DC93-420B-B561-76D0F095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7F7-AEB2-41D4-9BEA-3D3864A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04F-DFF7-4684-8252-06BE946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BBD8-749B-47AF-981D-CCC294709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Road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684036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Signs for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528920"/>
            <a:ext cx="75405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 carefu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3247920" cy="2685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the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249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Be careful! Childre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Cross the ro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9021600" cy="56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775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Don’t drive fa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3068640"/>
            <a:ext cx="6591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ngLiU_HKSCS-ExtB"/>
              </a:rPr>
              <a:t>Help the disabl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</a:rPr>
              <a:t>STOP!!!!!!!!!!!!!!!!!!!!!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40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UPC"/>
              </a:rPr>
              <a:t>Move safely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Turn right!!!!!!!!!!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704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2:14:25Z</dcterms:created>
  <dc:creator>user</dc:creator>
  <dc:description/>
  <dc:language>en-US</dc:language>
  <cp:lastModifiedBy>user</cp:lastModifiedBy>
  <dcterms:modified xsi:type="dcterms:W3CDTF">2013-04-09T12:37:22Z</dcterms:modified>
  <cp:revision>2</cp:revision>
  <dc:subject/>
  <dc:title>Road safety</dc:title>
</cp:coreProperties>
</file>